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5ECB-E0F0-48DB-AEE0-C6AA7C51C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B0EB-4485-420C-A45E-EDE631B7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9C6C29-9654-43C1-A98D-C73741DA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1344A6-618C-4995-8B93-FD21D74F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A07AE-4F81-4705-B4B2-015078AB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FCD91E-3A86-49F1-9987-BED3C777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FA7DF4-3584-47BF-9601-47D5DB95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F1457-893A-4487-BB3D-D579671F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DBBFC-5087-4C5F-8445-74559229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3C5DA0-39F5-4E44-9269-B02DB39C3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338CF9-D432-44D8-BF6B-2D67B22C0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A5D053-3A91-4C9F-968B-5491DFB61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CC2C-0DE1-41AD-8DE5-995004241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AE06DD-6136-46EF-9FE2-F66CA182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72C634-1252-42E0-9C3C-6A04751B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5B0FF8-B7F0-409E-BE2A-D0CE59E4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7051B1-187C-4C31-872A-9CF295E6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1B2851-9705-41AC-9341-36A388CB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C03033-B11B-426B-9B11-390F24DA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E231D-C2D2-4CF7-9700-F8ACF841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FD9C3A-C459-4180-BE76-B5075F94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531DCA-6F02-4A38-9022-7EEAC754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55EE31-2B9C-4135-B5F4-4D0CECB77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0AAA-4FCC-49A3-B745-1F3555272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2DADC6-23FC-4827-AB04-094E41869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1EA0-9F85-4F67-B3E9-B9AAFF0E8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C45A-DF11-452F-9B4B-05BA55BA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2F3B-1892-41EC-B0B8-F15B2BCF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4F86-A6D1-417F-9D32-C62D7865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E8B1A-2884-4CC8-A560-FDB16EBC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FB72-6AFA-431E-9F64-D871D1EC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C0681-BF86-4DA0-B524-30189C22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C7C1-8493-495E-973B-5EB95282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58C3-022D-4268-9499-1337F6DE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2801-5C9F-4AD3-B3FC-5810FEC9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D257-0DB1-4CD9-89C1-E44FA2D3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0A035-8A0E-4F93-A23A-F452192AD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5D39-522D-4585-8486-A1169CB14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E136A-7D9A-457D-9C0E-37EA68FD5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66EB5-718B-4A50-8570-D3C38F04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8D9BB-82A1-4BA6-935C-041407C7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DA955-FB1A-499A-9A45-5BC8020F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A65AB-6CC9-4DA9-B265-447A420A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AD5E-13D1-4B00-B708-F12A326E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197D0-88FF-4FE3-87B6-6BA9A244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BD106-C349-4652-9FC7-FC673594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0637A-98DB-4B97-8597-C2712C19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3D39B-1A3B-4B62-920A-64BC1F66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47AD7-EA1B-403F-90E7-FC27EFB7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C50A9-5989-49D8-8055-8169EF54C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16F3C-DCAC-4936-8DB6-F53313B97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C8A8A-0BBA-4986-8312-46E9DBCC1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8FE8B-2729-4822-82A5-6216890A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D8129-F923-4903-90FE-CB007CAD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E1FD-2E8B-4B75-9F7E-EBDE8550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25E94-BFF6-4366-997F-B6B40574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6864E-FC93-4812-B0BC-2A49774E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3F731-FF77-489C-92F6-3039D73B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B0B72-2DB3-4A8A-9B9E-52ECE4C2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3C763-CA1E-4204-B97E-13B4BE21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5F3AC-6659-4192-9C2B-34F53C8A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F629B-3CD0-4F31-B40A-D2D12E49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4CA86-F116-405B-83C0-16F2ED1B0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67F24-6E7B-4C10-AF91-6B2427457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839C3-1BC5-4EA7-ABC6-B85CAEAA5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B802-51D6-4F07-A312-BD593000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48324-C9A1-4F22-AC10-F1E4916A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EBDD0-12FD-40BA-A58B-97922002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1A01D-6D2D-44D1-A465-44C65267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6E1F3-3853-4FE1-9113-AAD56478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D8488-255F-4664-B023-AFD13E46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1E049-29F4-45D8-89F0-E2979C2E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F6D7E-845B-430A-98B5-ECDE65A1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104FE-5AAC-4CB8-99D1-4EF95F06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5D748-6805-4902-A96A-49AB16DC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EBEB2-264A-42A0-AB8E-AD798370E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0DCE-0EBF-4890-88BA-0B293EC8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9832E-5328-4593-A98D-5E2163750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6FFDB-BD16-44A4-9353-7D1793732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7B135-8D11-4407-821F-E9235BE7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7FAE1-CBAF-47CE-A729-9EE237A6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A6A1D-37D1-468D-B6A8-F709962A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7538D-7235-4484-84E8-B373E7EC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FF4F7-0EA7-4A23-A3E3-5FE680BF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2D367-A24D-42E2-9FB0-DEA1A864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AAADC-C6DA-4472-BB21-23016292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0AFA8-5074-4535-AE17-45755440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1E9F-A73B-4228-A884-0C9CC4D8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9466D-7BB4-4B5C-ACEA-8355D736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FA443-826E-4B68-8907-0C84E8E5C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78C1D-C52A-49C5-A47C-1A9FF1A39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160A2-2ACB-4582-BA84-4D9504C7C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39890-A890-4B77-959F-89AB0141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5C1DF-4A40-420C-A7EF-78006C73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A112F-40EC-4B27-AB89-50D4CD6A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63379-45BF-434B-B6CC-182BCF45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0764F-3C1F-4661-B425-A59D54EB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D066A-F880-468A-B5B5-59C551CD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7F90-3C8B-445D-AC65-BC77D429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CEC75-81CC-46DD-B2C3-F9775ECB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EBF86-DD5D-4B4B-A721-A077DC72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27432-1978-4892-91C2-59D3DCC8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4FD72-2513-48AB-A833-95FF4D62B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376D3-54BA-46CF-A8C6-A464C2B52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5DC79-D1DF-4BBF-947A-F08683034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38130-0759-4832-8CC6-73F1DD86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A739E-0C54-45E7-BF16-CE720EE9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9E61F-6907-4E93-A93B-3F59EBD0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5F91C-198B-4A48-8278-6BBDB63B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F447-0AF0-43A5-BCA0-02AAF0C7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88CDA-F661-41CE-9F63-E815094E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92494-E788-4B05-BFC2-69CD0450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B9D0B-869D-4E9A-AA51-2D3C52FB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6BEB5-F75F-46B8-9C6A-A2A4961B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E45F9-CD7E-4263-A4FB-752707D0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3BFAC-AF23-4DA2-8518-C8D2E6F6C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588D7-C519-485C-8169-722CD7AE6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262A5A-C929-4D2F-B1C9-51BDF231B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0304F4-BBE8-4633-B728-B8D89288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291BA-4F4D-4BEE-995F-4DDE4FA0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CDE8-1F08-4DEF-9754-334884B834E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6BB5-417E-41E2-9161-19C98A5227E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2344-9396-4E79-8A89-A8411EE944B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C0A5-3140-4C80-BE59-DF446286308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6E37-E0D3-4D6A-A846-714096F8B0A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CD1B-7B64-4546-B3C9-7E693D0D3AF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5454-ECD0-4324-AAE1-1CB5BC281EE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5690-82E4-4797-AB9E-376937C8219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B265-FE44-49B4-95D7-2EC6B483052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250D-E6B4-44EC-BB47-81D6A90FB41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3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제 이름은 김진수입니다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제 이름은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영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마이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스즈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프랑스와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량위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처음 뵙겠습니다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. 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제 이름은 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.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반갑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저는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야마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김경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톰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나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박정수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마이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최유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히로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리밍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영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Introduce yourself (in Korean) with the sentences from Lesson 1 to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스즈키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저는 스즈키입니다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진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제 이름은 김진수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스즈키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처음 뵙겠습니다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진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반갑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만나서 반갑습니다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름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na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처음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for the first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뵙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see, me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Corbel"/>
                <a:ea typeface="굴림"/>
              </a:rPr>
              <a:t>보다 </a:t>
            </a:r>
            <a:r>
              <a:rPr b="0" lang="ko-KR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Corbel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Corbel"/>
                <a:ea typeface="굴림"/>
              </a:rPr>
              <a:t>뵈옵다 </a:t>
            </a:r>
            <a:r>
              <a:rPr b="0" lang="ko-KR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Corbel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Corbel"/>
                <a:ea typeface="굴림"/>
              </a:rPr>
              <a:t>뵙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반갑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be glad, be n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rbel"/>
                <a:ea typeface="굴림"/>
              </a:rPr>
              <a:t>Irregular variation </a:t>
            </a:r>
            <a:r>
              <a:rPr b="0" lang="ko-KR" sz="2400" spc="-1" strike="noStrike">
                <a:solidFill>
                  <a:srgbClr val="ff0000"/>
                </a:solidFill>
                <a:latin typeface="Corbel"/>
                <a:ea typeface="굴림"/>
              </a:rPr>
              <a:t>반가웠습니다</a:t>
            </a:r>
            <a:r>
              <a:rPr b="0" lang="en-US" sz="2400" spc="-1" strike="noStrike">
                <a:solidFill>
                  <a:srgbClr val="ff0000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9bbb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는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postposition making noun su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는 한국말 선생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은 교과서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오늘은 비가 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root of the declarative ending when a noun is used as predicate (subject supple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는 김영수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것은 문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은 책상입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76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a humble expression of the first personla pronoun ‘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나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. Become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제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) with postposition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는 학생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는 미국 사람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제가 그 일을 하겠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제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) m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의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나의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제 책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여기가 제 방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은 내 가방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한국 사람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Korea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구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ho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회사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맑은 고딕"/>
              </a:rPr>
              <a:t>office?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) work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의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chai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중국 사람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Chines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시계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watch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미국 사람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America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책상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esk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할아버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grandfat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일본 사람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Japanes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머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구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회사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버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책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의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저는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정수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지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회사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본 사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중국 사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0-09T20:51:14Z</dcterms:modified>
  <cp:revision>76</cp:revision>
  <dc:subject/>
  <dc:title>KOREAN LANGUAGE</dc:title>
</cp:coreProperties>
</file>